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69D9F-9DA9-42F8-91D3-A42D89893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73F5-224F-49D4-BC64-C3A05625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61D0-EE3E-4A8A-A0F9-40DF606B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BA738-A58D-40B9-A232-9F9A0946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4803-FC2A-403C-BF58-6B602CDDF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1802-A1FB-442E-AD70-5042CFAF4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54F7-7CEC-430E-8ECC-D0CAD706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C7977-279D-4FD0-8A99-32415C07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3F199-29AB-46C9-A995-9BE5699E2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068A-E060-497A-8B40-8171DAD3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25C1-57DC-4DB4-BBE7-DCBF30760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6D9F-7296-4445-B99C-3B06E2A94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20AF-AC35-4534-BD47-680E5A1D7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Arial"/>
              </a:rPr>
              <a:t>Cheese</a:t>
            </a:r>
            <a:r>
              <a:rPr b="0" lang="en-US" sz="4800" spc="-1" strike="noStrike">
                <a:solidFill>
                  <a:srgbClr val="000000"/>
                </a:solidFill>
                <a:latin typeface="Wingdings"/>
                <a:ea typeface="Wingdings"/>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09880"/>
            <a:ext cx="647712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son</a:t>
            </a:r>
            <a:endParaRPr b="0" lang="en-US" sz="3200" spc="-1" strike="noStrike">
              <a:solidFill>
                <a:srgbClr val="000000"/>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ese is the best thing ev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like cheese so much it is tangy and good. cheese is made by bacteria and milk there is a trillion bacteria in a mouth full of cheese</a:t>
            </a:r>
            <a:endParaRPr b="0" lang="en-US" sz="2800" spc="-1" strike="noStrike">
              <a:solidFill>
                <a:srgbClr val="000000"/>
              </a:solidFill>
              <a:latin typeface="Arial"/>
            </a:endParaRPr>
          </a:p>
        </p:txBody>
      </p:sp>
      <p:pic>
        <p:nvPicPr>
          <p:cNvPr id="45" name="" descr=""/>
          <p:cNvPicPr/>
          <p:nvPr/>
        </p:nvPicPr>
        <p:blipFill>
          <a:blip r:embed="rId1"/>
          <a:stretch/>
        </p:blipFill>
        <p:spPr>
          <a:xfrm>
            <a:off x="5715000" y="2973240"/>
            <a:ext cx="1839960" cy="1677960"/>
          </a:xfrm>
          <a:prstGeom prst="rect">
            <a:avLst/>
          </a:prstGeom>
          <a:ln w="0">
            <a:noFill/>
          </a:ln>
        </p:spPr>
      </p:pic>
      <p:pic>
        <p:nvPicPr>
          <p:cNvPr id="46" name="" descr=""/>
          <p:cNvPicPr/>
          <p:nvPr/>
        </p:nvPicPr>
        <p:blipFill>
          <a:blip r:embed="rId2"/>
          <a:stretch/>
        </p:blipFill>
        <p:spPr>
          <a:xfrm>
            <a:off x="6019920" y="1828800"/>
            <a:ext cx="844560" cy="939960"/>
          </a:xfrm>
          <a:prstGeom prst="rect">
            <a:avLst/>
          </a:prstGeom>
          <a:ln w="0">
            <a:noFill/>
          </a:ln>
        </p:spPr>
      </p:pic>
      <p:pic>
        <p:nvPicPr>
          <p:cNvPr id="47" name="" descr=""/>
          <p:cNvPicPr/>
          <p:nvPr/>
        </p:nvPicPr>
        <p:blipFill>
          <a:blip r:embed="rId3"/>
          <a:stretch/>
        </p:blipFill>
        <p:spPr>
          <a:xfrm>
            <a:off x="6019920" y="4952880"/>
            <a:ext cx="844560" cy="939960"/>
          </a:xfrm>
          <a:prstGeom prst="rect">
            <a:avLst/>
          </a:prstGeom>
          <a:ln w="0">
            <a:noFill/>
          </a:ln>
        </p:spPr>
      </p:pic>
      <p:pic>
        <p:nvPicPr>
          <p:cNvPr id="48" name="" descr=""/>
          <p:cNvPicPr/>
          <p:nvPr/>
        </p:nvPicPr>
        <p:blipFill>
          <a:blip r:embed="rId4"/>
          <a:stretch/>
        </p:blipFill>
        <p:spPr>
          <a:xfrm>
            <a:off x="7696080" y="3733920"/>
            <a:ext cx="844560" cy="939600"/>
          </a:xfrm>
          <a:prstGeom prst="rect">
            <a:avLst/>
          </a:prstGeom>
          <a:ln w="0">
            <a:noFill/>
          </a:ln>
        </p:spPr>
      </p:pic>
      <p:pic>
        <p:nvPicPr>
          <p:cNvPr id="49" name="" descr=""/>
          <p:cNvPicPr/>
          <p:nvPr/>
        </p:nvPicPr>
        <p:blipFill>
          <a:blip r:embed="rId5"/>
          <a:stretch/>
        </p:blipFill>
        <p:spPr>
          <a:xfrm>
            <a:off x="4724280" y="2514600"/>
            <a:ext cx="844560" cy="939960"/>
          </a:xfrm>
          <a:prstGeom prst="rect">
            <a:avLst/>
          </a:prstGeom>
          <a:ln w="0">
            <a:noFill/>
          </a:ln>
        </p:spPr>
      </p:pic>
      <p:pic>
        <p:nvPicPr>
          <p:cNvPr id="50" name="" descr=""/>
          <p:cNvPicPr/>
          <p:nvPr/>
        </p:nvPicPr>
        <p:blipFill>
          <a:blip r:embed="rId6"/>
          <a:stretch/>
        </p:blipFill>
        <p:spPr>
          <a:xfrm>
            <a:off x="4724280" y="4343400"/>
            <a:ext cx="844560" cy="939960"/>
          </a:xfrm>
          <a:prstGeom prst="rect">
            <a:avLst/>
          </a:prstGeom>
          <a:ln w="0">
            <a:noFill/>
          </a:ln>
        </p:spPr>
      </p:pic>
      <p:pic>
        <p:nvPicPr>
          <p:cNvPr id="51" name="" descr=""/>
          <p:cNvPicPr/>
          <p:nvPr/>
        </p:nvPicPr>
        <p:blipFill>
          <a:blip r:embed="rId7"/>
          <a:stretch/>
        </p:blipFill>
        <p:spPr>
          <a:xfrm>
            <a:off x="7391520" y="2438280"/>
            <a:ext cx="844560" cy="939960"/>
          </a:xfrm>
          <a:prstGeom prst="rect">
            <a:avLst/>
          </a:prstGeom>
          <a:ln w="0">
            <a:noFill/>
          </a:ln>
        </p:spPr>
      </p:pic>
    </p:spTree>
  </p:cSld>
  <p:transition spd="med">
    <p:checke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8.61111E-006 -5.20231E-007 C 0.01042 -0.00185 0.0198 -0.00486 0.03021 -0.00648 C 0.05261 -0.01596 0.05296 -0.01711 0.09532 -0.00416 C 0.10053 -0.00255 0.09983 0.01063 0.10487 0.01271 C 0.10799 0.0141 0.11442 0.01688 0.11442 0.01688 C 0.12396 0.02959 0.13178 0.04092 0.14289 0.05063 C 0.14567 0.06196 0.14393 0.06196 0.15244 0.06751 C 0.15955 0.07769 0.15105 0.06474 0.15886 0.08023 C 0.1632 0.08878 0.16806 0.09618 0.17153 0.10566 C 0.17292 0.11745 0.1724 0.123 0.18108 0.1267 C 0.1816 0.12994 0.1856 0.14566 0.18733 0.14798 C 0.18907 0.15029 0.19167 0.15075 0.19376 0.15214 C 0.19428 0.15422 0.19428 0.15676 0.19532 0.15861 C 0.19757 0.16254 0.2033 0.16902 0.2033 0.16902 C 0.20469 0.17826 0.20487 0.18358 0.20955 0.19029 C 0.21702 0.23052 0.20626 0.27376 0.21598 0.31283 C 0.21546 0.32416 0.21528 0.33526 0.21442 0.34659 C 0.21337 0.35954 0.20799 0.37017 0.2033 0.38058 C 0.20087 0.38589 0.19827 0.39144 0.19688 0.39745 C 0.19584 0.40162 0.19619 0.40693 0.19376 0.41017 C 0.18837 0.41711 0.18317 0.42428 0.17778 0.43121 C 0.17344 0.44855 0.17952 0.42728 0.1731 0.44185 C 0.17223 0.4437 0.17275 0.44647 0.17153 0.44809 C 0.17032 0.44971 0.16823 0.44948 0.16667 0.45017 C 0.15903 0.46081 0.1566 0.47584 0.14775 0.48416 C 0.14567 0.49225 0.14428 0.49387 0.1382 0.49665 C 0.13664 0.49803 0.13473 0.49919 0.13334 0.50104 C 0.13195 0.50289 0.13178 0.50589 0.13021 0.50728 C 0.12744 0.50959 0.12067 0.51144 0.12067 0.51144 C 0.11702 0.51653 0.10799 0.52416 0.10799 0.52416 C 0.10435 0.53942 0.09983 0.53711 0.08733 0.53896 C 0.05834 0.55191 0.08056 0.54266 0.00487 0.53896 C -0.00121 0.53873 -0.01267 0.53271 -0.01267 0.53271 C -0.02048 0.52208 -0.03437 0.49942 -0.04444 0.4904 C -0.04913 0.48624 -0.05381 0.48162 -0.05868 0.47769 C -0.06058 0.47607 -0.06302 0.47514 -0.06493 0.47352 C -0.0743 0.4652 -0.08177 0.45318 -0.09045 0.44393 C -0.09878 0.43491 -0.10989 0.42659 -0.11892 0.4185 C -0.12395 0.4141 -0.12743 0.40717 -0.13159 0.40162 C -0.13263 0.40023 -0.13489 0.39745 -0.13489 0.39745 C -0.13385 0.30566 -0.13836 0.27376 -0.12534 0.203 C -0.12482 0.19792 -0.12465 0.18589 -0.12222 0.17965 C -0.11736 0.1674 -0.11093 0.1563 -0.10624 0.14381 C -0.10451 0.12971 -0.10243 0.12994 -0.09999 0.11838 C -0.096 0.09896 -0.09982 0.10589 -0.09357 0.09711 C -0.09288 0.09341 -0.08923 0.07884 -0.08715 0.07607 C -0.08593 0.07445 -0.08402 0.07468 -0.08246 0.07399 C -0.07968 0.06219 -0.07361 0.05433 -0.06493 0.05063 C -0.05572 0.04254 -0.04722 0.03352 -0.03802 0.02543 C -0.03437 0.02219 -0.02933 0.02358 -0.02534 0.02104 C -0.01718 0.01572 -0.00885 0.0141 8.61111E-006 0.01063 C 0.00348 0.00925 0.00608 0.00462 0.00955 0.00416 C 0.0191 0.003 0.02865 0.00416 0.0382 0.00416 E">
                                      <p:cBhvr>
                                        <p:cTn id="14" dur="2000" fill="hold"/>
                                        <p:tgtEl>
                                          <p:spTgt spid="46"/>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05556E-006 4.10405E-006 C 0.00278 0.00046 0.0132 0.00116 0.01754 0.00416 C 0.03021 0.01318 0.04185 0.02775 0.05556 0.03376 C 0.06407 0.05642 0.05851 0.04578 0.07153 0.06335 C 0.07466 0.06751 0.08091 0.07607 0.08091 0.07607 C 0.08351 0.08532 0.08264 0.09827 0.08889 0.10358 C 0.09202 0.10636 0.09844 0.11191 0.09844 0.11191 C 0.10018 0.12324 0.1033 0.12809 0.10799 0.13734 C 0.10556 0.23052 0.11199 0.17387 0.09844 0.2178 C 0.09723 0.22197 0.09723 0.22682 0.09532 0.23029 C 0.09393 0.23283 0.0908 0.23283 0.08889 0.23468 C 0.08264 0.24092 0.08264 0.24301 0.07935 0.25156 C 0.07692 0.27144 0.07431 0.29179 0.06355 0.30659 C 0.05938 0.32301 0.0599 0.32393 0.05087 0.33618 C 0.04827 0.33965 0.04289 0.34659 0.04289 0.34659 C 0.03959 0.36023 0.03004 0.37017 0.02067 0.37618 C 0.01216 0.38751 0.00504 0.39306 -0.00468 0.40162 C -0.00902 0.40532 -0.01093 0.4111 -0.01579 0.41433 C -0.0184 0.41595 -0.021 0.41734 -0.02378 0.4185 C -0.02795 0.42012 -0.03645 0.42266 -0.03645 0.42266 C -0.04374 0.43306 -0.06597 0.43237 -0.07465 0.43329 C -0.08211 0.43584 -0.08958 0.4363 -0.09687 0.43977 C -0.11649 0.43907 -0.13611 0.43977 -0.15555 0.43746 C -0.16058 0.43676 -0.16475 0.43168 -0.16979 0.43121 C -0.17621 0.43052 -0.18246 0.42983 -0.18888 0.42913 C -0.19704 0.42636 -0.20329 0.41942 -0.21111 0.41433 C -0.2144 0.41202 -0.21857 0.41295 -0.22222 0.41225 C -0.23472 0.40208 -0.25364 0.39538 -0.26354 0.38266 C -0.26562 0.3741 -0.27048 0.37087 -0.27465 0.36347 C -0.27968 0.33688 -0.27187 0.37064 -0.2809 0.35098 C -0.28749 0.33665 -0.28107 0.34012 -0.28576 0.32555 C -0.28871 0.31653 -0.29357 0.3089 -0.29687 0.30012 C -0.29808 0.28902 -0.29756 0.28254 -0.30312 0.27468 C -0.3059 0.26358 -0.30607 0.25133 -0.30954 0.24092 C -0.31579 0.2222 -0.31979 0.20624 -0.32222 0.1859 C -0.32135 0.16162 -0.32152 0.13734 -0.31579 0.11422 C -0.31527 0.1059 -0.31319 0.06682 -0.30954 0.05919 C -0.30798 0.05572 -0.3052 0.05341 -0.30312 0.05064 C -0.29982 0.02335 -0.30433 0.03168 -0.29687 0.02104 C -0.29635 0.01688 -0.29652 0.01225 -0.29513 0.00832 C -0.29426 0.00601 -0.29131 0.00624 -0.29045 0.00416 C -0.28437 -0.01017 -0.29236 -0.00208 -0.28732 -0.01272 C -0.28576 -0.01619 -0.28263 -0.0178 -0.2809 -0.02127 C -0.27239 -0.03861 -0.28454 -0.02058 -0.27135 -0.03815 C -0.26805 -0.0511 -0.27222 -0.03769 -0.2651 -0.05087 C -0.25954 -0.06127 -0.2644 -0.05803 -0.25711 -0.06775 C -0.25381 -0.07237 -0.24947 -0.07561 -0.246 -0.08046 C -0.24183 -0.09734 -0.24826 -0.07723 -0.23958 -0.08879 C -0.2309 -0.10035 -0.246 -0.09179 -0.23333 -0.09734 C -0.2302 -0.1015 -0.2269 -0.1059 -0.22378 -0.11006 C -0.22117 -0.11353 -0.21996 -0.11908 -0.21736 -0.12254 C -0.21301 -0.12832 -0.20468 -0.13965 -0.20468 -0.13965 C -0.20121 -0.1533 -0.19079 -0.16277 -0.1809 -0.16694 C -0.17065 -0.18058 -0.17222 -0.18081 -0.15711 -0.18405 C -0.15069 -0.18983 -0.14374 -0.19121 -0.13645 -0.19445 C -0.13489 -0.19584 -0.13367 -0.19884 -0.13176 -0.19884 C -0.10538 -0.19954 -0.07881 -0.19977 -0.05242 -0.19653 C -0.04878 -0.19607 -0.04062 -0.17688 -0.03958 -0.17549 C -0.03298 -0.16671 -0.02135 -0.16 -0.01267 -0.15445 C -0.00624 -0.1459 8.05556000000023E-006 -0.13757 0.00643 -0.12902 C 0.00851 -0.12624 0.0106 -0.12324 0.01268 -0.12046 C 0.01476 -0.11769 0.0191 -0.11214 0.0191 -0.11214 C 0.02014 -0.10936 0.02101 -0.10636 0.02223 -0.10358 C 0.02362 -0.10058 0.0257 -0.09827 0.02709 -0.09526 C 0.02796 -0.09341 0.02796 -0.09087 0.02865 -0.08879 C 0.03091 -0.08277 0.03473 -0.07838 0.0382 -0.07399 C 0.04532 -0.03514 0.04133 -0.06289 0.04133 0.01064 E">
                                      <p:cBhvr>
                                        <p:cTn id="18" dur="2000" fill="hold"/>
                                        <p:tgtEl>
                                          <p:spTgt spid="51"/>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5.55556E-006 -4.04624E-007 C -0.00226 0.01157 -0.00626 0.01688 -0.01268 0.02521 C -0.01858 0.04162 -0.03386 0.0592 -0.04289 0.07399 C -0.04428 0.07631 -0.04463 0.08 -0.04601 0.08232 C -0.04879 0.08694 -0.05261 0.09041 -0.05556 0.09503 C -0.05799 0.09896 -0.05956 0.10359 -0.06181 0.10775 C -0.06928 0.12093 -0.08577 0.12995 -0.09671 0.13735 C -0.1007 0.14012 -0.10278 0.14636 -0.10626 0.15006 C -0.10817 0.15214 -0.1106 0.15284 -0.11268 0.15422 C -0.12049 0.16463 -0.11997 0.16671 -0.12848 0.1711 C -0.1316 0.17272 -0.13803 0.17526 -0.13803 0.17526 C -0.14376 0.18336 -0.13994 0.1785 -0.1507 0.18798 C -0.15192 0.18914 -0.15244 0.19168 -0.154 0.19237 C -0.15799 0.19399 -0.16251 0.19376 -0.16667 0.19446 C -0.19497 0.20694 -0.22692 0.20047 -0.25556 0.19006 C -0.26407 0.18174 -0.26997 0.17735 -0.27778 0.16694 C -0.27935 0.16486 -0.28213 0.1644 -0.28403 0.16278 C -0.2889 0.15885 -0.29445 0.15561 -0.29844 0.15006 C -0.30956 0.13503 -0.30383 0.13989 -0.31424 0.13318 C -0.32067 0.12162 -0.32588 0.10821 -0.33647 0.10359 C -0.34081 0.09758 -0.34306 0.09434 -0.34601 0.08648 C -0.3474 0.07677 -0.34897 0.07006 -0.35226 0.06128 C -0.3507 0.03746 -0.34983 0.01295 -0.34601 -0.01063 C -0.34376 -0.0245 -0.33577 -0.03537 -0.33334 -0.04878 C -0.33126 -0.05965 -0.32483 -0.06635 -0.32223 -0.0763 C -0.31789 -0.09271 -0.32067 -0.08508 -0.31424 -0.09942 C -0.3139 -0.1015 -0.31251 -0.11306 -0.31112 -0.1163 C -0.30331 -0.13341 -0.31251 -0.10566 -0.30469 -0.12693 C -0.29879 -0.14289 -0.30522 -0.13294 -0.29671 -0.14381 C -0.29619 -0.14589 -0.29601 -0.14843 -0.29515 -0.15028 C -0.29393 -0.15283 -0.2915 -0.15398 -0.29046 -0.15653 C -0.27969 -0.1852 -0.29063 -0.16832 -0.28247 -0.17988 C -0.27969 -0.19121 -0.27848 -0.19976 -0.27292 -0.20948 C -0.27067 -0.22173 -0.26719 -0.22682 -0.26338 -0.23907 C -0.25487 -0.26612 -0.26216 -0.2578 -0.254 -0.26867 C -0.24966 -0.27445 -0.24653 -0.28208 -0.24115 -0.28554 C -0.23699 -0.28832 -0.22848 -0.29387 -0.22848 -0.29387 C -0.2198 -0.30612 -0.23299 -0.28855 -0.21893 -0.30242 C -0.2165 -0.30474 -0.21528 -0.30867 -0.21268 -0.31075 C -0.20973 -0.31306 -0.20626 -0.31329 -0.20313 -0.31514 C -0.18803 -0.32416 -0.17553 -0.32832 -0.15869 -0.33202 C -0.1073 -0.32393 -0.104 -0.32254 -0.06824 -0.31306 C -0.06424 -0.31028 -0.05938 -0.30982 -0.05556 -0.30658 C -0.054 -0.3052 -0.05365 -0.30196 -0.05226 -0.30034 C -0.05053 -0.29826 -0.04792 -0.2978 -0.04601 -0.29595 C -0.04358 -0.29364 -0.04167 -0.2904 -0.03959 -0.28763 C -0.03699 -0.27976 -0.03473 -0.27167 -0.03178 -0.26427 C -0.03108 -0.26242 -0.029 -0.26196 -0.02848 -0.26011 C -0.02067 -0.23005 -0.02188 -0.22427 -0.01112 -0.20092 C -0.00817 -0.19445 -0.00435 -0.18867 -0.00157 -0.18196 C 0.00312 -0.17017 0.0111 -0.14589 0.0111 -0.14589 C 0.01701 -0.10705 0.01718 -0.06358 0.00798 -0.02543 C 0.0052 0.00116 0.00381 0.01295 -0.00469 0.03584 C -0.0073 0.04301 -0.01094 0.06359 -0.01424 0.0696 C -0.01563 0.07214 -0.01858 0.07261 -0.02067 0.07399 C -0.02171 0.07677 -0.0224 0.08 -0.02379 0.08232 C -0.02657 0.08694 -0.03334 0.09503 -0.03334 0.09503 C -0.03751 0.10659 -0.03647 0.10891 -0.04601 0.11191 C -0.05417 0.12301 -0.06233 0.12486 -0.0698 0.13526 C -0.07032 0.13735 -0.07015 0.13989 -0.07136 0.14151 C -0.0731 0.14382 -0.08022 0.14567 -0.07778 0.14567 C -0.06528 0.14567 -0.05313 0.13711 -0.04115 0.13318 C -0.03126 0.12417 -0.0356 0.12463 -0.03004 0.12463 E">
                                      <p:cBhvr>
                                        <p:cTn id="22" dur="2000" fill="hold"/>
                                        <p:tgtEl>
                                          <p:spTgt spid="4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8.05556E-006 5.78035E-008 C -0.00538 0.00693 -0.01215 0.00531 -0.01909 0.00832 C -0.03489 0.00693 -0.05104 0.00786 -0.06666 0.00416 C -0.06961 0.00346 -0.07065 -0.00185 -0.07308 -0.00417 C -0.08541 -0.01503 -0.09982 -0.01896 -0.11284 -0.02752 C -0.11597 -0.03168 -0.1184 -0.03723 -0.12222 -0.04023 C -0.1302 -0.04671 -0.13611 -0.0437 -0.14288 -0.05087 C -0.16909 -0.07885 -0.13159 -0.04671 -0.1684 -0.07607 C -0.1717 -0.08948 -0.18176 -0.09411 -0.18888 -0.10359 C -0.19496 -0.12602 -0.18437 -0.08902 -0.19531 -0.11838 C -0.19635 -0.12093 -0.19583 -0.1244 -0.19687 -0.12694 C -0.19861 -0.13156 -0.20138 -0.13526 -0.20329 -0.13966 C -0.20867 -0.15214 -0.21267 -0.16417 -0.21597 -0.17758 C -0.2151 -0.19353 -0.21822 -0.20902 -0.20954 -0.21989 C -0.2085 -0.22266 -0.20711 -0.22544 -0.20642 -0.22844 C -0.20503 -0.23538 -0.20503 -0.24278 -0.20329 -0.24948 C -0.20225 -0.25341 -0.19895 -0.25503 -0.19687 -0.25804 C -0.18854 -0.28578 -0.17708 -0.31145 -0.16996 -0.34035 C -0.16562 -0.37573 -0.17222 -0.33365 -0.16354 -0.36162 C -0.16041 -0.37133 -0.16267 -0.37781 -0.15729 -0.38474 C -0.14774 -0.39723 -0.15676 -0.37619 -0.14444 -0.39954 C -0.13923 -0.40948 -0.13402 -0.41943 -0.12864 -0.42914 C -0.12048 -0.4437 -0.11475 -0.4622 -0.10329 -0.47353 C -0.09062 -0.48602 -0.06458 -0.4837 -0.0493 -0.49041 C -0.01597 -0.48694 0.01494 -0.48047 0.04758 -0.47561 C 0.06112 -0.4696 0.07518 -0.46752 0.08889 -0.46289 C 0.09306 -0.45526 0.09653 -0.44671 0.10157 -0.43977 C 0.10313 -0.43769 0.10487 -0.43561 0.10626 -0.4333 C 0.10973 -0.42752 0.11042 -0.42174 0.11424 -0.41642 C 0.12657 -0.38151 0.13455 -0.34474 0.15556 -0.31723 C 0.1566 -0.31445 0.15712 -0.31122 0.15869 -0.30867 C 0.16146 -0.30405 0.16824 -0.29596 0.16824 -0.29596 C 0.17587 -0.26474 0.17449 -0.19029 0.15383 -0.16278 C 0.15105 -0.15376 0.14896 -0.14428 0.14601 -0.13526 C 0.14202 -0.12324 0.13334 -0.09943 0.13334 -0.09943 C 0.13282 -0.09596 0.13282 -0.09203 0.1316 -0.08879 C 0.13056 -0.08625 0.12778 -0.08532 0.12692 -0.08255 C 0.1257 -0.07862 0.12639 -0.07399 0.12535 -0.06983 C 0.12483 -0.06729 0.1231 -0.06567 0.12223 -0.06336 C 0.12153 -0.06128 0.12205 -0.05804 0.12049 -0.05711 C 0.11563 -0.05411 0.10469 -0.05295 0.10469 -0.05295 C 0.08751 -0.04139 0.09653 -0.04648 0.07778 -0.03815 C 0.05955 -0.0222 0.03699 -0.01156 0.0158 -0.00417 C 0.01476 -0.00139 0.01459 0.00231 0.01268 0.00416 C 0.0099 0.0067 0.00313 0.00832 0.00313 0.00832 C 0.00209 0.00971 8.05556E-006 0.01271 8.05556E-006 0.01271 E">
                                      <p:cBhvr>
                                        <p:cTn id="26" dur="2000" fill="hold"/>
                                        <p:tgtEl>
                                          <p:spTgt spid="47"/>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1.66667E-006 9.82659E-007 C -0.0007 -0.0259 -0.00678 -0.08231 1.66667E-006 -0.11006 C 0.00086 -0.12994 -0.00053 -0.1748 0.00642 -0.20093 C 0.00798 -0.21549 0.01475 -0.24763 0.02222 -0.25804 C 0.02326 -0.26358 0.02395 -0.26936 0.02534 -0.27491 C 0.02743 -0.28324 0.03246 -0.28763 0.03489 -0.29595 C 0.03819 -0.30728 0.03802 -0.31699 0.04444 -0.32555 C 0.04739 -0.34173 0.05104 -0.34728 0.06024 -0.35954 C 0.06059 -0.36 0.07291 -0.37572 0.07309 -0.37642 C 0.07795 -0.38936 0.07864 -0.39699 0.08888 -0.40162 C 0.08958 -0.40254 0.09444 -0.40971 0.09531 -0.41017 C 0.09722 -0.41133 0.09947 -0.41133 0.10156 -0.41225 C 0.10694 -0.41503 0.11197 -0.4185 0.11753 -0.42081 C 0.12517 -0.42844 0.13385 -0.43168 0.14288 -0.43561 C 0.18611 -0.4333 0.22274 -0.43792 0.26197 -0.42081 C 0.2684 -0.41179 0.26371 -0.41734 0.27777 -0.40809 C 0.27986 -0.40671 0.2842 -0.40393 0.2842 -0.40393 C 0.29704 -0.38636 0.31388 -0.37688 0.32691 -0.35954 C 0.33003 -0.35538 0.33281 -0.35052 0.33645 -0.34682 C 0.34288 -0.34035 0.34982 -0.33503 0.35555 -0.32763 C 0.35868 -0.32347 0.36197 -0.31931 0.3651 -0.31515 C 0.36614 -0.31376 0.36822 -0.31075 0.36822 -0.31075 C 0.37586 -0.28116 0.371 -0.29272 0.39201 -0.26012 C 0.39496 -0.25549 0.40156 -0.2474 0.40156 -0.2474 C 0.40451 -0.23538 0.4052 -0.22312 0.40954 -0.21156 C 0.40816 -0.14127 0.41979 -0.14543 0.39687 -0.11422 C 0.39409 -0.08832 0.38385 -0.06682 0.37777 -0.04231 C 0.37638 -0.03653 0.371 -0.03422 0.36822 -0.0296 C 0.36458 -0.02358 0.36163 -0.01711 0.35868 -0.01064 C 0.35746 -0.00786 0.35711 -0.00462 0.35555 -0.00208 C 0.35277 0.00254 0.34878 0.00578 0.346 0.0104 C 0.34097 0.0185 0.33645 0.02728 0.33177 0.03584 C 0.33038 0.03838 0.3302 0.04208 0.32864 0.04439 C 0.3243 0.05133 0.31805 0.05595 0.31423 0.06335 C 0.30503 0.08162 0.29757 0.09873 0.28576 0.11399 C 0.28229 0.11838 0.28142 0.12532 0.27934 0.1311 C 0.27708 0.13734 0.27152 0.14058 0.26822 0.1459 C 0.2618 0.15607 0.26319 0.16301 0.25399 0.16902 C 0.25034 0.17827 0.24757 0.18821 0.24288 0.19653 C 0.23836 0.20462 0.22691 0.21757 0.22691 0.21757 C 0.22204 0.23098 0.22083 0.23376 0.20954 0.23676 C 0.1934 0.25757 0.16614 0.25017 0.146 0.23884 C 0.13055 0.23029 0.15121 0.24 0.1302 0.22613 C 0.11579 0.21665 0.09843 0.21202 0.0842 0.20277 C 0.06267 0.18867 0.04201 0.17272 0.01909 0.16277 C 0.00416 0.1563 -0.00695 0.1422 -0.02066 0.13318 C -0.03178 0.11746 -0.02466 0.09988 -0.02379 0.08023 C -0.02344 0.07098 -0.02379 0.06196 -0.02379 0.05272 E">
                                      <p:cBhvr>
                                        <p:cTn id="30" dur="2000" fill="hold"/>
                                        <p:tgtEl>
                                          <p:spTgt spid="5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05556E-006 -1.32948E-006 C 0.00052 -0.00832 0.00035 -0.01688 0.00156 -0.0252 C 0.00347 -0.03838 0.01493 -0.0474 0.02049 -0.05688 C 0.0349 -0.08092 0.02344 -0.07167 0.03646 -0.08023 C 0.04184 -0.09479 0.04792 -0.11306 0.05868 -0.12046 C 0.0651 -0.13757 0.06962 -0.14081 0.08403 -0.14358 C 0.11372 -0.1637 0.07448 -0.13872 0.10313 -0.15214 C 0.10504 -0.15306 0.11823 -0.16208 0.12222 -0.16485 C 0.125 -0.1667 0.12847 -0.16647 0.1316 -0.16693 C 0.18785 -0.17549 0.14549 -0.16786 0.17448 -0.17318 C 0.20122 -0.18543 0.22969 -0.1741 0.25712 -0.16901 C 0.26233 -0.1667 0.2684 -0.16716 0.27292 -0.16277 C 0.27604 -0.15977 0.27726 -0.15422 0.27934 -0.15005 C 0.28247 -0.14381 0.28715 -0.13919 0.29045 -0.13318 C 0.29184 -0.13063 0.29201 -0.12716 0.29358 -0.12462 C 0.31354 -0.09294 0.3033 -0.11722 0.31111 -0.09711 C 0.31441 -0.07884 0.31754 -0.05387 0.33004 -0.04208 C 0.3342 -0.03422 0.34444 -0.02104 0.34444 -0.02104 C 0.35104 -0.00277 0.36076 0.01133 0.37135 0.02544 C 0.37691 0.03284 0.37899 0.04509 0.38559 0.05087 C 0.39045 0.05503 0.4 0.06359 0.4 0.06359 C 0.40608 0.08833 0.40122 0.07792 0.41424 0.09526 C 0.4184 0.12417 0.4191 0.11954 0.4158 0.16509 C 0.4151 0.17388 0.40382 0.20093 0.40313 0.20301 C 0.39358 0.22867 0.38142 0.25203 0.37448 0.27908 C 0.37222 0.28763 0.36493 0.2918 0.36024 0.29827 C 0.34948 0.31284 0.34167 0.32532 0.33333 0.34266 C 0.32986 0.34983 0.32049 0.34474 0.31424 0.34682 C 0.31007 0.34821 0.3059 0.35052 0.30156 0.35099 C 0.27257 0.35399 0.2434 0.35538 0.21424 0.35746 C 0.19167 0.36162 0.18837 0.36393 0.16024 0.36578 C 0.14115 0.37411 0.14618 0.37411 0.12049 0.37642 C 0.08993 0.39006 0.10417 0.38521 0.03958 0.3785 C 0.03646 0.37827 0.0342 0.37457 0.0316 0.37226 C 0.02257 0.36393 0.00469 0.34682 0.00469 0.34682 C -0.00121 0.33064 0.00538 0.34451 -0.00486 0.33411 C -0.00729 0.3318 -0.00868 0.32786 -0.01111 0.32555 C -0.01736 0.31908 -0.04635 0.29619 -0.04931 0.29388 C -0.05312 0.29087 -0.05503 0.28417 -0.05885 0.28116 C -0.06319 0.27769 -0.07309 0.27492 -0.07309 0.27492 C -0.07743 0.26289 -0.07674 0.24555 -0.06667 0.24116 C -0.06562 0.23977 -0.06493 0.23746 -0.06354 0.23677 C -0.05851 0.23445 -0.04774 0.2326 -0.04774 0.2326 C -0.04253 0.2259 -0.03559 0.22636 -0.02865 0.22428 C -0.02552 0.22336 -0.0191 0.22197 -0.0191 0.22197 E">
                                      <p:cBhvr>
                                        <p:cTn id="34"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fferent cheese is mad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pends on how much milk and bacteria you use and what type of bacteria you use like one type makes chedd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5410080" y="3276720"/>
            <a:ext cx="2481480" cy="2666880"/>
          </a:xfrm>
          <a:prstGeom prst="rect">
            <a:avLst/>
          </a:prstGeom>
          <a:ln w="0">
            <a:noFill/>
          </a:ln>
        </p:spPr>
      </p:pic>
    </p:spTree>
  </p:cSld>
  <p:transition spd="med">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eses worst nightmare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eese grater a cheeses worst nightmare is the cheese grater I is evil and turns it o shreds never use it on your cheese it is evil and cheese has feelings you know</a:t>
            </a:r>
            <a:endParaRPr b="0" lang="en-US" sz="2800" spc="-1" strike="noStrike">
              <a:solidFill>
                <a:srgbClr val="000000"/>
              </a:solidFill>
              <a:latin typeface="Arial"/>
            </a:endParaRPr>
          </a:p>
        </p:txBody>
      </p:sp>
      <p:pic>
        <p:nvPicPr>
          <p:cNvPr id="57" name="" descr=""/>
          <p:cNvPicPr/>
          <p:nvPr/>
        </p:nvPicPr>
        <p:blipFill>
          <a:blip r:embed="rId1"/>
          <a:stretch/>
        </p:blipFill>
        <p:spPr>
          <a:xfrm>
            <a:off x="5364000" y="2033640"/>
            <a:ext cx="2610000" cy="365760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 give cheese to your pets</a:t>
            </a:r>
            <a:r>
              <a:rPr b="0" lang="en-US" sz="4000" spc="-1" strike="noStrike">
                <a:solidFill>
                  <a:srgbClr val="000000"/>
                </a:solidFill>
                <a:latin typeface="Wingdings"/>
                <a:ea typeface="Wingdings"/>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cheese may be tasty to us it can make pets sick. and you don’t want dead pet smell in your house it could make your other cheese un happy and leave you.</a:t>
            </a:r>
            <a:endParaRPr b="0" lang="en-US" sz="2800" spc="-1" strike="noStrike">
              <a:solidFill>
                <a:srgbClr val="000000"/>
              </a:solidFill>
              <a:latin typeface="Arial"/>
            </a:endParaRPr>
          </a:p>
        </p:txBody>
      </p:sp>
      <p:pic>
        <p:nvPicPr>
          <p:cNvPr id="60" name="" descr=""/>
          <p:cNvPicPr/>
          <p:nvPr/>
        </p:nvPicPr>
        <p:blipFill>
          <a:blip r:embed="rId1"/>
          <a:stretch/>
        </p:blipFill>
        <p:spPr>
          <a:xfrm>
            <a:off x="5783400" y="2446200"/>
            <a:ext cx="2674800" cy="2114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5:22:17Z</dcterms:created>
  <dc:creator>Yellow Springs Exempted Village School District</dc:creator>
  <dc:description/>
  <dc:language>en-US</dc:language>
  <cp:lastModifiedBy>Yellow Springs Exempted Village School District</cp:lastModifiedBy>
  <dcterms:modified xsi:type="dcterms:W3CDTF">2011-11-17T15:35:41Z</dcterms:modified>
  <cp:revision>8</cp:revision>
  <dc:subject/>
  <dc:title>Cheese </dc:title>
</cp:coreProperties>
</file>